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8.gif" ContentType="image/gif"/>
  <Override PartName="/ppt/media/image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696-41D8-45F4-861A-E77E813D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B93-04A5-4428-A63E-9A5DCDC8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E4B-95EC-47D8-ADBE-261A1ABA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2FD-E4D9-4D33-89C1-16C232EE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9D32-E6DA-4168-8A1E-C6F0E164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39B9-AA4D-4960-B79F-E668AE99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5ED5-9812-48E2-BFD7-28D8DC94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7D8A-B942-4859-85DD-F63C35DC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A870-6362-46D9-958A-B5967EE6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A36A-41A7-4A12-9FF9-04A374BF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1390-ED5D-4A01-AEC2-A84CD309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1EE-2624-44A4-A088-5D8594BE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B9EE-0CE5-4773-B7C4-00A3B312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DAA1-CD42-490E-A273-2D7827A2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06E0-9C55-4877-A75C-38D7A3F1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F029-3969-4099-93A6-1DA3BA65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0197-5ACC-4A38-913A-E57DCEC8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6C1-26AA-4041-92DB-8CF0439B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22D-D838-4465-95D8-EA8C6F55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65C-DC2A-4CE0-8B40-0CEF1B11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D7F-4645-4340-B14D-39D4EA6E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3D9-8416-47D6-8954-11287A6F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816-DEE6-425E-BDE7-C0F1C8C9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B48-ADAC-4051-8130-E67FEC0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D3B7-CD3D-4F14-B8B9-9B71CB1AB4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027-F2DE-432D-A7CF-074A59A33A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The Quilt Story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Vocabulary and Amazing Word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titc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ew or fasten something with stitch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MCHH00757_0000[1]"/>
          <p:cNvPicPr/>
          <p:nvPr/>
        </p:nvPicPr>
        <p:blipFill>
          <a:blip r:embed="rId1"/>
          <a:stretch/>
        </p:blipFill>
        <p:spPr>
          <a:xfrm>
            <a:off x="4267080" y="2362320"/>
            <a:ext cx="2890800" cy="3841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atch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mall ax with a handle about a foot long, for use with one ha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MCj02960780000[1]"/>
          <p:cNvPicPr/>
          <p:nvPr/>
        </p:nvPicPr>
        <p:blipFill>
          <a:blip r:embed="rId1"/>
          <a:stretch/>
        </p:blipFill>
        <p:spPr>
          <a:xfrm>
            <a:off x="3124080" y="3179880"/>
            <a:ext cx="403884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chwor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eces of cloth of various colors or shapes sewed toget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MCSO01275_0000[1]"/>
          <p:cNvPicPr/>
          <p:nvPr/>
        </p:nvPicPr>
        <p:blipFill>
          <a:blip r:embed="rId1"/>
          <a:stretch/>
        </p:blipFill>
        <p:spPr>
          <a:xfrm>
            <a:off x="3352680" y="3124080"/>
            <a:ext cx="3103560" cy="322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mazing Wor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reserv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repres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valuabl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frow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omelan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68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68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serv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keep protected from anything that would cause to be ruined or spoil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MCj01540600000[1]"/>
          <p:cNvPicPr/>
          <p:nvPr/>
        </p:nvPicPr>
        <p:blipFill>
          <a:blip r:embed="rId1"/>
          <a:stretch/>
        </p:blipFill>
        <p:spPr>
          <a:xfrm>
            <a:off x="3276720" y="3886200"/>
            <a:ext cx="2482560" cy="287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epresen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tand for or symbolize someth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MCj03983230000[1]"/>
          <p:cNvPicPr/>
          <p:nvPr/>
        </p:nvPicPr>
        <p:blipFill>
          <a:blip r:embed="rId1"/>
          <a:stretch/>
        </p:blipFill>
        <p:spPr>
          <a:xfrm>
            <a:off x="3048120" y="3276720"/>
            <a:ext cx="2716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aluabl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th something or importa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MCj01500380000[1]"/>
          <p:cNvPicPr/>
          <p:nvPr/>
        </p:nvPicPr>
        <p:blipFill>
          <a:blip r:embed="rId1"/>
          <a:stretch/>
        </p:blipFill>
        <p:spPr>
          <a:xfrm>
            <a:off x="2743200" y="2514600"/>
            <a:ext cx="3710160" cy="3846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oug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thing that is difficult to d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MCj04280830000[1]"/>
          <p:cNvPicPr/>
          <p:nvPr/>
        </p:nvPicPr>
        <p:blipFill>
          <a:blip r:embed="rId1"/>
          <a:stretch/>
        </p:blipFill>
        <p:spPr>
          <a:xfrm>
            <a:off x="3200400" y="2438280"/>
            <a:ext cx="298296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nking about one thing very carefully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MCj04244740000[1]"/>
          <p:cNvPicPr/>
          <p:nvPr/>
        </p:nvPicPr>
        <p:blipFill>
          <a:blip r:embed="rId1"/>
          <a:stretch/>
        </p:blipFill>
        <p:spPr>
          <a:xfrm>
            <a:off x="3581280" y="2743200"/>
            <a:ext cx="347364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row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en you wrinkle your forehead and draw your eyebrows together, usually when you are worried, angry, or thinking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MCj04238440000[1]"/>
          <p:cNvPicPr/>
          <p:nvPr/>
        </p:nvPicPr>
        <p:blipFill>
          <a:blip r:embed="rId1"/>
          <a:stretch/>
        </p:blipFill>
        <p:spPr>
          <a:xfrm>
            <a:off x="5181480" y="3733920"/>
            <a:ext cx="2590920" cy="25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blanke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retend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quil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tuffing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runk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unpack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titch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atche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atchwork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omelan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country in which you were born and where you feel you belong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j0309844"/>
          <p:cNvPicPr/>
          <p:nvPr/>
        </p:nvPicPr>
        <p:blipFill>
          <a:blip r:embed="rId1"/>
          <a:stretch/>
        </p:blipFill>
        <p:spPr>
          <a:xfrm>
            <a:off x="2209680" y="3200400"/>
            <a:ext cx="42674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o wait for something or put up with some trouble without complaining or getting upset.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MMAG00466_0000[1]"/>
          <p:cNvPicPr/>
          <p:nvPr/>
        </p:nvPicPr>
        <p:blipFill>
          <a:blip r:embed="rId1"/>
          <a:stretch/>
        </p:blipFill>
        <p:spPr>
          <a:xfrm>
            <a:off x="4038480" y="3048120"/>
            <a:ext cx="1325520" cy="363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lanket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ft, warm covering for be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MCj02324440000[1]"/>
          <p:cNvPicPr/>
          <p:nvPr/>
        </p:nvPicPr>
        <p:blipFill>
          <a:blip r:embed="rId1"/>
          <a:stretch/>
        </p:blipFill>
        <p:spPr>
          <a:xfrm>
            <a:off x="2971800" y="2743200"/>
            <a:ext cx="3122640" cy="3316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tend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make-believe that something is real when it is no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MCFL00393_0000[1]"/>
          <p:cNvPicPr/>
          <p:nvPr/>
        </p:nvPicPr>
        <p:blipFill>
          <a:blip r:embed="rId1"/>
          <a:stretch/>
        </p:blipFill>
        <p:spPr>
          <a:xfrm>
            <a:off x="2666880" y="3470400"/>
            <a:ext cx="4496040" cy="313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quil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ft covering for a b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MCj01549580000[1]"/>
          <p:cNvPicPr/>
          <p:nvPr/>
        </p:nvPicPr>
        <p:blipFill>
          <a:blip r:embed="rId1"/>
          <a:stretch/>
        </p:blipFill>
        <p:spPr>
          <a:xfrm>
            <a:off x="2438280" y="2666880"/>
            <a:ext cx="3733920" cy="3514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tuffin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 used to fill or pack someth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MCj03292840000[1]"/>
          <p:cNvPicPr/>
          <p:nvPr/>
        </p:nvPicPr>
        <p:blipFill>
          <a:blip r:embed="rId1"/>
          <a:stretch/>
        </p:blipFill>
        <p:spPr>
          <a:xfrm>
            <a:off x="2971800" y="3581280"/>
            <a:ext cx="3657600" cy="2632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nk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rge boxes for carrying cloth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MCj02805920000[1]"/>
          <p:cNvPicPr/>
          <p:nvPr/>
        </p:nvPicPr>
        <p:blipFill>
          <a:blip r:embed="rId1"/>
          <a:stretch/>
        </p:blipFill>
        <p:spPr>
          <a:xfrm>
            <a:off x="2819520" y="3033720"/>
            <a:ext cx="3962160" cy="314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unpack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take things out that were packed in a box, trunk, or other contain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MPj03143900000[1]"/>
          <p:cNvPicPr/>
          <p:nvPr/>
        </p:nvPicPr>
        <p:blipFill>
          <a:blip r:embed="rId1"/>
          <a:stretch/>
        </p:blipFill>
        <p:spPr>
          <a:xfrm>
            <a:off x="3276720" y="4114800"/>
            <a:ext cx="243684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rapp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over with pap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MPj04091570000[1]"/>
          <p:cNvPicPr/>
          <p:nvPr/>
        </p:nvPicPr>
        <p:blipFill>
          <a:blip r:embed="rId1"/>
          <a:srcRect l="0" t="37778" r="5019" b="11112"/>
          <a:stretch/>
        </p:blipFill>
        <p:spPr>
          <a:xfrm>
            <a:off x="2590920" y="2743200"/>
            <a:ext cx="3809880" cy="312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3:06:14Z</dcterms:created>
  <dc:creator> </dc:creator>
  <dc:description/>
  <dc:language>en-US</dc:language>
  <cp:lastModifiedBy>Laura McDow</cp:lastModifiedBy>
  <dcterms:modified xsi:type="dcterms:W3CDTF">2010-07-29T10:01:25Z</dcterms:modified>
  <cp:revision>4</cp:revision>
  <dc:subject/>
  <dc:title>The Quilt Story Vocabulary and Amazing Words</dc:title>
</cp:coreProperties>
</file>